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E9E-6848-472F-8DB2-53E1A808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41E-4719-47FB-8EE5-F3038C91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FA8-CE35-4F11-A75C-309B1BDA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585-8E94-4C63-8D4A-A3339A8B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5D1F-57E8-40AC-B4EA-8476A77D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4500-1C13-4B90-AFAE-A212958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8AD-7E98-4E54-BCFD-2F51B69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3DF2-2D46-43FA-A443-35082A8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8CE-6CA6-46B5-9AFF-033AFC1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3EE-8582-4EB4-B221-FC5C759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6B6-A9F6-4849-9353-0F5E399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EB4-B1D3-4401-8CFC-CA300C0B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7B49-AE43-49D6-A227-DCB54D0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2268-DE6E-42BD-9093-C8379DC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B7E-764E-478F-880C-8C3C4701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23AE-3500-4041-B021-A19A4337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94A-AD04-4304-AC0A-D0001EAF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DB6-CFCE-49E4-BED2-8147C80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CDC-6559-49FA-B3CD-46EC0471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B08-3C9A-40CD-A32E-48A2BDD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7D9-D9BD-450A-AC00-95867B23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2EC-B369-4E7F-BEA9-5D708EC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ACD-B56C-4002-AD05-A6DF1B3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DDD-B9B6-4C5F-90B7-DA10D491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A91-8D89-4464-BE13-22B315390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E586-9483-4C04-B18C-2C9749C097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ДЕРСТВО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рансформацио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које утиче на чланове да постижу екстраординарне перформансе у условима иновација и про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валитети трансформационог лидер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Визија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ма идеје и смисао за управ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Х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Симболизам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дентификује “хероје”, даје посебне награде, промов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Унапређење: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маже развој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Шта је лидерство?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Процес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инспирисањ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ругих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ојачају напор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стваривању заједничких циље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идери треба да имају и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моћ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би утицали на дру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еф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оћ ј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пособн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да с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утич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на друге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а рад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оно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што ми жели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моћ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905120"/>
          <a:ext cx="8610480" cy="396216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Моћ позици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Лична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грађив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кспер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Моћ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си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еферент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</a:t>
                      </a:r>
                      <a:r>
                        <a:rPr b="0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егитимна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Лидер </a:t>
            </a:r>
            <a:r>
              <a:rPr b="1" lang="en-US" sz="4400" spc="-1" strike="noStrike">
                <a:solidFill>
                  <a:srgbClr val="ff7547"/>
                </a:solidFill>
                <a:latin typeface="Arial"/>
              </a:rPr>
              <a:t>vs. </a:t>
            </a: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наџер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1523880"/>
          <a:ext cx="6095880" cy="4988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аџ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рочно орјентис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рж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ретативна мо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а, организује, контроли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шља и води пром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води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ира визи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к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 зашто и зашто 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ствари на прави на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 праве ств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икас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: ефектив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в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с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жи разл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ј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ствена ли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визионарског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пиони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подстицати иновације и подржавати људе са иде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Бити ентузијаста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пирисати друге кроз лични ентузијазам да учествују у заједничкој ви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омагати друге да делују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ити идол тима и подржати напор и таленте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ати пример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обезбедити конзистентан модел улоге како други могу и треба да 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ославити успех</a:t>
            </a: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– уносити емоцију у радном место (“радити срцем колико и главом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523880"/>
          <a:ext cx="8610480" cy="5070600"/>
        </p:xfrm>
        <a:graphic>
          <a:graphicData uri="http://schemas.openxmlformats.org/drawingml/2006/table">
            <a:tbl>
              <a:tblPr/>
              <a:tblGrid>
                <a:gridCol w="2347920"/>
                <a:gridCol w="782640"/>
                <a:gridCol w="782640"/>
                <a:gridCol w="784080"/>
                <a:gridCol w="782640"/>
                <a:gridCol w="782640"/>
                <a:gridCol w="782640"/>
                <a:gridCol w="782640"/>
                <a:gridCol w="782640"/>
              </a:tblGrid>
              <a:tr h="524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дле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лидер-ч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ост зад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пози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а ситу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ферирани </a:t>
                      </a:r>
                      <a:r>
                        <a:rPr b="1" lang="sr-R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дерски ст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547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задатаку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ду, производњи, услуга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 орјентисан према релацијама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ема људим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167" name="Straight Arrow Connector 6"/>
          <p:cNvCxnSpPr/>
          <p:nvPr/>
        </p:nvCxnSpPr>
        <p:spPr>
          <a:xfrm>
            <a:off x="4495320" y="4419360"/>
            <a:ext cx="259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1542960"/>
          <a:ext cx="7925040" cy="53150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592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ерси – Бланшаров модел лиде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ечна спремност следбеника да извршавају зад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 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и, ал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, али желе (или су поузда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у способни и не желе (или су несигур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d7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легир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група доноси и узима одговорност за одлуке; стил слабог понашања и слабих ре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ртиципација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наглашавање учешћа идеја и партиципативних одлука; стил високих интера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беђи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објашњавање одлука и обезбеђивање услова; стил високе орјентације према одн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општавање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давање специфичних директива и контрола перфоманси; стил слабе интерак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Up-Down Arrow 9"/>
          <p:cNvSpPr/>
          <p:nvPr/>
        </p:nvSpPr>
        <p:spPr>
          <a:xfrm rot="16200000">
            <a:off x="2317680" y="2178000"/>
            <a:ext cx="164880" cy="990360"/>
          </a:xfrm>
          <a:prstGeom prst="upDownArrow">
            <a:avLst>
              <a:gd name="adj1" fmla="val 50000"/>
              <a:gd name="adj2" fmla="val 49888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Up-Down Arrow 10"/>
          <p:cNvSpPr/>
          <p:nvPr/>
        </p:nvSpPr>
        <p:spPr>
          <a:xfrm rot="16200000">
            <a:off x="6844320" y="2147040"/>
            <a:ext cx="179280" cy="1066680"/>
          </a:xfrm>
          <a:prstGeom prst="upDownArrow">
            <a:avLst>
              <a:gd name="adj1" fmla="val 50000"/>
              <a:gd name="adj2" fmla="val 5016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Хаусов модел лидерства (“пут – циљ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спешан лидер је способан да реши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ситуационе фактор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који запосленима стоје на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пут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да постигну </a:t>
            </a:r>
            <a:r>
              <a:rPr b="0" lang="sr-RS" sz="2800" spc="-1" strike="noStrike">
                <a:solidFill>
                  <a:srgbClr val="ff0000"/>
                </a:solidFill>
                <a:latin typeface="Arial"/>
              </a:rPr>
              <a:t>циљев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4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директ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.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одршци чланова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ство засновано на 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остваривању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Партиципативно лид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и лидерст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Врум - Јаго модел лид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идер стил бира у складу са проблемима које реш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3 стила лидерст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Ауторитар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Консултативан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Групни 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2T23:36:23Z</dcterms:modified>
  <cp:revision>181</cp:revision>
  <dc:subject/>
  <dc:title>Soft and Hard Skills Development: A Current Situation in Serbian Companies</dc:title>
</cp:coreProperties>
</file>